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509-8727-4402-8FA9-5F4B652E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2B1-7868-4DAC-90E8-89D5FE6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C3F-1755-43CC-9CB8-55162DF1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950-EB4F-4554-928D-6C13014B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28F-C31B-4C7C-B203-51DF80BE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C0C-14F2-4E2F-B044-65398A3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7AA-D0F0-4A43-8928-ACF48F8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616-2F21-4C54-B73D-3C235B4B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960-E48C-4DF8-BC52-363D5F2A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4F3-3A1E-42AF-BAC6-CFA33B73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4F4-CD54-457E-BD82-630FFD9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B9A-CF9A-49C3-A5EC-98285BF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7E8F-5542-4D47-9239-5E8AEBA7A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6 Len tvojou cestou vp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ou cestou vpr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kráčať, Pane,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ruku uchop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vôkol zúri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vojej ruke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stý v zmätku cie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aj tme navzdo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š svojím svetlom vies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vojich šľapaj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r cesty k cieľu zr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to živo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lužby prijmi m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rdcu vládni 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zomrie pyšné j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d krížom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ôle tvojej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šetko poruč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radosť chceš mi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mútok okús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Pane, so mnou 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ôj hrad a ští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iaď túžob mojich 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ovom svojím sý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4:33:46Z</dcterms:modified>
  <cp:revision>23</cp:revision>
  <dc:subject/>
  <dc:title>Je veľký náš Pán, on slávy je Kráľ Nech do všetkých strán  spev vrúcnych znie chvál.</dc:title>
</cp:coreProperties>
</file>